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71028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4024440" y="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93240" y="767880"/>
            <a:ext cx="511668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4680" rIns="94680" tIns="47160" bIns="471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Calibri"/>
              </a:rPr>
              <a:t>Click to move the slide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28451-462C-45F8-BE25-1677A3AAF0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9360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11360" y="4861080"/>
            <a:ext cx="568296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4024440" y="9721800"/>
            <a:ext cx="30780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F0140-1C17-4A2B-9D96-A9575BAAD3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83AA-779E-499F-A09F-9E9FC2092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2ADC-CE7B-401F-959B-5B58657F6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27F3-AC4A-476B-9655-BA7F3FEFE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9964-970E-4332-86F4-11A093F01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E2FA9-E2E0-466F-8B35-4B9C39179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8D9B5-8272-4810-A53C-87E148084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0CCD8-443E-43AA-B361-E3BED6DF8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B004B-88ED-46C2-B129-A82A1FC7C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4DF7C-73DC-427D-BE71-E9C268C7D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E9A9C-514A-4E01-9DBC-2353A41A0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F599E-DC7B-4A38-8F4B-BBF8DC8BE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3F6C-EC7D-4C26-B4DE-F5772EB0C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300E1-9518-4D6B-9315-C9CB1B9CC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2ED11-51A7-45EE-9375-0C4C76830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B89A0-CB54-4173-A2A2-724FA91AF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A6209-00BE-4C6A-B2EB-1CF6B2A7E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BE622-437A-4DE3-BB1E-309541542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8B58-32FA-48BF-920B-4691F9D2D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FA32-A6A2-4282-AD62-0F0EADCC3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BE0E-7DDB-409C-AC20-75D62F6D0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1F32-FBB4-4311-AB55-15393F5F2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CAC0-367B-4B42-B2B8-0946707DD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8A09-F313-480B-A91C-BFABFFBBA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E6B8-B483-41F9-AA23-6AED24158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1" marL="727920" indent="-28008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2" marL="1119960" indent="-22392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3" marL="1568160" indent="-22392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4" marL="2016000" indent="-223920">
              <a:spcBef>
                <a:spcPts val="901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39EB7-F92D-4AA2-9CB1-3EB9A0A48E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7" descr="EBF-FINAL_noWhiteBorder.GIF"/>
          <p:cNvPicPr/>
          <p:nvPr/>
        </p:nvPicPr>
        <p:blipFill>
          <a:blip r:embed="rId2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20" descr="pwptline.jpg"/>
          <p:cNvPicPr/>
          <p:nvPr/>
        </p:nvPicPr>
        <p:blipFill>
          <a:blip r:embed="rId3"/>
          <a:srcRect l="771" t="760" r="1119" b="96620"/>
          <a:stretch/>
        </p:blipFill>
        <p:spPr>
          <a:xfrm>
            <a:off x="0" y="1143000"/>
            <a:ext cx="9144000" cy="152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7" descr="EBF-FINAL_noWhiteBorder.GIF"/>
          <p:cNvPicPr/>
          <p:nvPr/>
        </p:nvPicPr>
        <p:blipFill>
          <a:blip r:embed="rId2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0" descr="pwptline.jpg"/>
          <p:cNvPicPr/>
          <p:nvPr/>
        </p:nvPicPr>
        <p:blipFill>
          <a:blip r:embed="rId3"/>
          <a:srcRect l="771" t="760" r="1119" b="96620"/>
          <a:stretch/>
        </p:blipFill>
        <p:spPr>
          <a:xfrm>
            <a:off x="0" y="1143000"/>
            <a:ext cx="9144000" cy="1522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0" descr="EBF-FINAL_noWhiteBorder.GIF"/>
          <p:cNvPicPr/>
          <p:nvPr/>
        </p:nvPicPr>
        <p:blipFill>
          <a:blip r:embed="rId4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1" marL="727920" indent="-28008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2" marL="1119960" indent="-22392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3" marL="1568160" indent="-22392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4" marL="2016000" indent="-223920">
              <a:spcBef>
                <a:spcPts val="901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3C088-C869-4812-BB32-CF6FEA64B3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Internet Financial Top-level Domains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1f497d"/>
                </a:solidFill>
                <a:latin typeface="Calibri"/>
              </a:rPr>
              <a:t>Associates Meeting 8 December 2011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e46c0a"/>
                </a:solidFill>
                <a:latin typeface="Calibri"/>
              </a:rPr>
              <a:t>Background </a:t>
            </a:r>
            <a:br>
              <a:rPr sz="3200"/>
            </a:br>
            <a:endParaRPr b="0" lang="en-US" sz="32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Internet Corporation fro Assigned Names and Numbers (ICANN) controls the establishment of valid Top Level Domains names (TLDs) such as “.com” or “.org”</a:t>
            </a:r>
            <a:endParaRPr b="0" lang="en-US" sz="2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No availabilities. New generic Top Level Domains (gTLDs) names program launched by ICANN : “anyone can apply for anything” (.bank ; .banque, …)</a:t>
            </a:r>
            <a:endParaRPr b="0" lang="en-US" sz="2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Applications open from 12 January to 12 April 2012. Evaluation afterwards (9–20 months). New gTLDs will likely be delegated in early 2013</a:t>
            </a:r>
            <a:endParaRPr b="0" lang="en-US" sz="2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just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Raises concerns on Fraud and Intellectual property </a:t>
            </a:r>
            <a:endParaRPr b="0" lang="en-US" sz="2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e46c0a"/>
                </a:solidFill>
                <a:latin typeface="Calibri"/>
              </a:rPr>
              <a:t>Background </a:t>
            </a:r>
            <a:br>
              <a:rPr sz="3200"/>
            </a:br>
            <a:endParaRPr b="0" lang="en-US" sz="32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3564000" y="1916280"/>
            <a:ext cx="2016000" cy="9144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3200" spc="-1" strike="noStrike">
                <a:solidFill>
                  <a:srgbClr val="e46c0a"/>
                </a:solidFill>
                <a:latin typeface="Calibri"/>
              </a:rPr>
              <a:t>ICAN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3635280" y="3284640"/>
            <a:ext cx="1944720" cy="9144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Calibri"/>
              </a:rPr>
              <a:t>Registry oper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1476360" y="3284640"/>
            <a:ext cx="1943280" cy="9144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Calibri"/>
              </a:rPr>
              <a:t>Registry oper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5796000" y="3284640"/>
            <a:ext cx="1944720" cy="9144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Calibri"/>
              </a:rPr>
              <a:t>Registry oper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684360" y="4653000"/>
            <a:ext cx="1295280" cy="576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7f7f7f"/>
                </a:solidFill>
                <a:latin typeface="Calibri"/>
              </a:rPr>
              <a:t>Registra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2124000" y="4653000"/>
            <a:ext cx="1295640" cy="576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7f7f7f"/>
                </a:solidFill>
                <a:latin typeface="Calibri"/>
              </a:rPr>
              <a:t>Registra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3564000" y="4653000"/>
            <a:ext cx="1295280" cy="576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7f7f7f"/>
                </a:solidFill>
                <a:latin typeface="Calibri"/>
              </a:rPr>
              <a:t>Registra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val 10"/>
          <p:cNvSpPr/>
          <p:nvPr/>
        </p:nvSpPr>
        <p:spPr>
          <a:xfrm>
            <a:off x="611280" y="5732640"/>
            <a:ext cx="1368360" cy="43308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e46c0a"/>
                </a:solidFill>
                <a:latin typeface="Calibri"/>
              </a:rPr>
              <a:t>Registr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1835280" y="6165720"/>
            <a:ext cx="1368360" cy="43200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e46c0a"/>
                </a:solidFill>
                <a:latin typeface="Calibri"/>
              </a:rPr>
              <a:t>Registr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Oval 12"/>
          <p:cNvSpPr/>
          <p:nvPr/>
        </p:nvSpPr>
        <p:spPr>
          <a:xfrm>
            <a:off x="2050920" y="5589720"/>
            <a:ext cx="1368720" cy="43164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e46c0a"/>
                </a:solidFill>
                <a:latin typeface="Calibri"/>
              </a:rPr>
              <a:t>Registr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traight Connector 23"/>
          <p:cNvSpPr/>
          <p:nvPr/>
        </p:nvSpPr>
        <p:spPr>
          <a:xfrm>
            <a:off x="4211640" y="2852640"/>
            <a:ext cx="0" cy="432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2" name="Straight Connector 25"/>
          <p:cNvCxnSpPr>
            <a:endCxn id="103" idx="0"/>
          </p:cNvCxnSpPr>
          <p:nvPr/>
        </p:nvCxnSpPr>
        <p:spPr>
          <a:xfrm flipV="1" rot="10800000">
            <a:off x="2447280" y="2203920"/>
            <a:ext cx="1116720" cy="1080360"/>
          </a:xfrm>
          <a:prstGeom prst="bentConnector2">
            <a:avLst/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113" name="Straight Connector 27"/>
          <p:cNvCxnSpPr>
            <a:endCxn id="104" idx="0"/>
          </p:cNvCxnSpPr>
          <p:nvPr/>
        </p:nvCxnSpPr>
        <p:spPr>
          <a:xfrm>
            <a:off x="5579640" y="2276640"/>
            <a:ext cx="1188360" cy="1008720"/>
          </a:xfrm>
          <a:prstGeom prst="bentConnector2">
            <a:avLst/>
          </a:prstGeom>
          <a:ln w="9360">
            <a:solidFill>
              <a:srgbClr val="4a7ebb"/>
            </a:solidFill>
            <a:miter/>
          </a:ln>
        </p:spPr>
      </p:cxnSp>
      <p:sp>
        <p:nvSpPr>
          <p:cNvPr id="114" name="Straight Connector 30"/>
          <p:cNvSpPr/>
          <p:nvPr/>
        </p:nvSpPr>
        <p:spPr>
          <a:xfrm>
            <a:off x="1619280" y="4221000"/>
            <a:ext cx="0" cy="432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Straight Connector 34"/>
          <p:cNvSpPr/>
          <p:nvPr/>
        </p:nvSpPr>
        <p:spPr>
          <a:xfrm>
            <a:off x="2771640" y="4149720"/>
            <a:ext cx="0" cy="503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6" name="Straight Connector 36"/>
          <p:cNvCxnSpPr/>
          <p:nvPr/>
        </p:nvCxnSpPr>
        <p:spPr>
          <a:xfrm>
            <a:off x="3276720" y="4221000"/>
            <a:ext cx="791280" cy="432720"/>
          </a:xfrm>
          <a:prstGeom prst="bentConnector3">
            <a:avLst>
              <a:gd name="adj1" fmla="val 4997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117" name="Straight Arrow Connector 43"/>
          <p:cNvCxnSpPr/>
          <p:nvPr/>
        </p:nvCxnSpPr>
        <p:spPr>
          <a:xfrm flipV="1">
            <a:off x="2555640" y="5228640"/>
            <a:ext cx="1080" cy="36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45"/>
          <p:cNvCxnSpPr>
            <a:stCxn id="109" idx="1"/>
          </p:cNvCxnSpPr>
          <p:nvPr/>
        </p:nvCxnSpPr>
        <p:spPr>
          <a:xfrm flipH="1" flipV="1">
            <a:off x="1834920" y="5229000"/>
            <a:ext cx="202320" cy="1000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9" name="Straight Arrow Connector 47"/>
          <p:cNvCxnSpPr>
            <a:stCxn id="108" idx="0"/>
          </p:cNvCxnSpPr>
          <p:nvPr/>
        </p:nvCxnSpPr>
        <p:spPr>
          <a:xfrm flipH="1" flipV="1">
            <a:off x="1115640" y="5229000"/>
            <a:ext cx="180000" cy="50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Actions  undertaken </a:t>
            </a:r>
            <a:br>
              <a:rPr sz="3200"/>
            </a:b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by the Industry </a:t>
            </a:r>
            <a:br>
              <a:rPr sz="3200"/>
            </a:br>
            <a:endParaRPr b="0" lang="en-US" sz="32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IBfed and EBF tried to convince ICANN to refrain from proceeding with new gTLD such as “.bank” or at least  to create a process with additional safeguards. In response, ICANN amended  its guidebook acknowledging that financial Top-level domains will require higher level of security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ABA/BITS and ?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WG on Security Standards (minimum evaluation criteria that ICANN evaluators should use to judge applicants)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(+ VeriSign) NewCo </a:t>
            </a:r>
            <a:r>
              <a:rPr b="0" lang="nl-BE" sz="2400" spc="-1" strike="noStrike">
                <a:solidFill>
                  <a:srgbClr val="1f497d"/>
                </a:solidFill>
                <a:latin typeface="Calibri"/>
              </a:rPr>
              <a:t>fTLD Registry Services, LLC 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to apply as registry operator for “.</a:t>
            </a:r>
            <a:r>
              <a:rPr b="0" lang="nl-BE" sz="2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bank”  (March 2012) </a:t>
            </a:r>
            <a:r>
              <a:rPr b="0" lang="en-US" sz="2400" spc="-1" strike="noStrike">
                <a:solidFill>
                  <a:srgbClr val="1f497d"/>
                </a:solidFill>
                <a:latin typeface="Wingdings"/>
                <a:ea typeface="Wingdings"/>
              </a:rPr>
              <a:t>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Raising awareness (GAC, Basle Cttee, European Commission, …) 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Next steps </a:t>
            </a:r>
            <a:br>
              <a:rPr sz="3200"/>
            </a:br>
            <a:endParaRPr b="0" lang="en-US" sz="32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EBF endorsement of the minimum security standards ? 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Elevated security standards are primarily policies on how the Registry Operator (wholesaler of domain names) and their Registrars (retailer of domain names) must act and operate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Policies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 algn="just">
              <a:lnSpc>
                <a:spcPct val="80000"/>
              </a:lnSpc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Types of name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 algn="just">
              <a:lnSpc>
                <a:spcPct val="80000"/>
              </a:lnSpc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Eligibility requirements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 algn="just">
              <a:lnSpc>
                <a:spcPct val="80000"/>
              </a:lnSpc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Validation prior activa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 algn="just">
              <a:lnSpc>
                <a:spcPct val="80000"/>
              </a:lnSpc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100 % accurate registrant informa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 algn="just">
              <a:lnSpc>
                <a:spcPct val="80000"/>
              </a:lnSpc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…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Compliance  : Registry agreement with ICANN/ Registry-Registrar agreements, registration agreement etc…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Participation in the ABA/BITS NewCo ?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Application for other generic Top Level domains names </a:t>
            </a:r>
            <a:r>
              <a:rPr b="0" lang="en-US" sz="2000" spc="-1" strike="noStrike">
                <a:solidFill>
                  <a:srgbClr val="1f497d"/>
                </a:solidFill>
                <a:latin typeface="Calibri"/>
              </a:rPr>
              <a:t>(national level, cross-countries ?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Continue to raise awareness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1f497d"/>
                </a:solidFill>
                <a:latin typeface="Calibri"/>
              </a:rPr>
              <a:t>ICANN Governmental Advisory Committee (GAC) Early Warning system</a:t>
            </a:r>
            <a:endParaRPr b="0" lang="en-US" sz="17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7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1f497d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11:11:41Z</dcterms:created>
  <dc:creator>Tatyana Ferragallo</dc:creator>
  <dc:description/>
  <dc:language>en-US</dc:language>
  <cp:lastModifiedBy>Dominique Buggenhout</cp:lastModifiedBy>
  <dcterms:modified xsi:type="dcterms:W3CDTF">2011-12-08T12:19:44Z</dcterms:modified>
  <cp:revision>177</cp:revision>
  <dc:subject/>
  <dc:title>Slide 1</dc:title>
</cp:coreProperties>
</file>